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3506-C415-4F55-A748-1182F4750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to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ycle as much a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contai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ice &amp; school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stic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to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perly dispose of toxic and hazardous mate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usehold insectic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ven clea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urniture clea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il-based pa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batteries &amp; o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newable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that replenish themselves natur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/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renewabl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nrenewable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that do not replenish themselves natur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such as oil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mal Pol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fisherman walks where Bikeman Island once rose out of the South Pacific oce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is this an effect of global warming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er temperatures are melting the icecaps causing sea level to rise. (A number of South Pacific islands are seriously threatened by rising sea levels due to global warming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website on the Bikeman Island phenomenon if interes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tv.oneworld.net/tapestry?link=17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: Earth Crash Earth Spirit http://eces.org/gallery/airgfx/air36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171-D6F7-4EA0-846A-41CC37CD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0F7-9EF8-4F7A-9353-D5ED680C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0DB-EEC5-4564-A617-CEF7DB51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118-4974-4274-A7AB-82301245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13D-5B01-42A6-97C4-3446B129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7DB-317F-4148-ADD8-13B724BF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DA7-A6B9-41A5-A671-C9DB9E3B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647-8A0B-4140-B465-64A0E48B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AC1-B430-44EA-8261-752EDAB2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798-7D64-4D1C-9088-8D638CB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3ED-838D-4425-9C83-E0906EF0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A60-487A-4592-A641-C474F4FC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D8E9-A5A1-4616-BA01-D4024D54C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Times New Roman"/>
              </a:rPr>
              <a:t>Ecological Problem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zon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Ozone is harmful in the lower atmosphere; it creates sm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aused primarily by automobile exhau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High levels of ozone damages the health of humans and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uman Population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7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6 billion people worldw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Highest population rates occur in countries that have the least resource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38% of the world population is located in India &amp; Chin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Africa has the world's highest rate of population growt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6633"/>
                </a:solidFill>
                <a:latin typeface="Times New Roman"/>
              </a:rPr>
              <a:t>United States, Western Europe, and Japan have the lowest population growth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ternative Energy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33% of the world’s population uses 85% of the world’s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Optimistically, there is enough “cheaply obtained” oil to last 4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Fossil fuels have many detrimental effects to the environment (see ozone, global warming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ternative Energy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olar Ener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Wind Power (windmi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Geothermal Energy (geysers &amp; hot spr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Water Power (need to build d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3533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Recycle as much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Aluminum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Glass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Office &amp; school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Many plastic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Click To Download"/>
          <p:cNvPicPr/>
          <p:nvPr/>
        </p:nvPicPr>
        <p:blipFill>
          <a:blip r:embed="rId1"/>
          <a:stretch/>
        </p:blipFill>
        <p:spPr>
          <a:xfrm>
            <a:off x="5654520" y="2759040"/>
            <a:ext cx="2990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Properly dispose of toxic and hazardous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Household insecti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Oven clea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Furniture clea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Oil-based 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Motor batteries &amp; 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76800" y="3587760"/>
            <a:ext cx="2465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8858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Only after the last tree has been cut down,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  </a:t>
            </a: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Only after the last river has been poisoned,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  </a:t>
            </a: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Only after the last fish has been caught,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  </a:t>
            </a:r>
            <a:r>
              <a:rPr b="1" lang="en-US" sz="3100" spc="-1" strike="noStrike">
                <a:solidFill>
                  <a:srgbClr val="996633"/>
                </a:solidFill>
                <a:latin typeface="Arial Black"/>
              </a:rPr>
              <a:t>Only then will you realize that money cannot be eaten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5029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We Do Not Inherit The Earth From Our Ancestors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We Borrow It From Our Childr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86360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Renewable 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000" y="1157040"/>
            <a:ext cx="90295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</a:rPr>
              <a:t>Renewable Resources: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 Resources that replenish themselves natur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63440" y="2306520"/>
            <a:ext cx="349272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Trees/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18120" y="2224080"/>
            <a:ext cx="43322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90000"/>
            <a:ext cx="87850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Nonrenewable 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840" y="1173240"/>
            <a:ext cx="87109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</a:rPr>
              <a:t>Nonrenewable Resources: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 Resources that do not replenish themselves naturally or that take such a long time that they are considered fix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59840" y="3347640"/>
            <a:ext cx="4599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Top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Fossil fuels such as oil an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50040" y="2732040"/>
            <a:ext cx="3573360" cy="39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aused by sulfur dioxide released from smokestacks of industries and nitrogen oxides from automobile exha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Damage to aquatic &amp; terrestrial life and buildings &amp; statues made of lim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lobal Warming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(Greenhouse Effec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Greenhouse Gases” trap the energy from the sun and the earth retains the heat somewhat like the glass of a green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Caused mainly by excess CO</a:t>
            </a:r>
            <a:r>
              <a:rPr b="0" lang="en-US" sz="2800" spc="-1" strike="noStrike" baseline="-25000">
                <a:solidFill>
                  <a:srgbClr val="9966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 from the burning of fossil fuels (in homes &amp; businesses) and automobile exha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Earth’s temperature has risen about 1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 F in the past century; estimated to increase 1.5-6.0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°F in the next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lobal Warming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(Greenhouse Effec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Effect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odd” weather patterns &amp; “extreme” weather has become more comm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melting of glaciers and ice sheets will raise the oceans levels (remember that most of the world’s population lives near 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Times New Roman"/>
              </a:rPr>
              <a:t>Global Warm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0760" y="1241280"/>
            <a:ext cx="8534160" cy="25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A fisherman walks where Bikeman Island once rose out of the South Pacific oc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How is this an effect of global warm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49640" y="3533760"/>
            <a:ext cx="472608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z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Ozone (O</a:t>
            </a:r>
            <a:r>
              <a:rPr b="0" lang="en-US" sz="2800" spc="-1" strike="noStrike" baseline="-25000">
                <a:solidFill>
                  <a:srgbClr val="9966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) is beneficial in the upper atmosphere; it shields the earth's surface from UV light from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Depleted ozone layer is leading to health problems in humans &amp; the destruction of the aquatic food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Depletion is caused primarily by CFCs, a gas that escapes from aerosol cans, refrigerators, and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2:32:57Z</dcterms:created>
  <dc:creator>Plano ISD</dc:creator>
  <dc:description/>
  <dc:language>en-US</dc:language>
  <cp:lastModifiedBy>Plano ISD</cp:lastModifiedBy>
  <dcterms:modified xsi:type="dcterms:W3CDTF">2004-09-01T13:27:13Z</dcterms:modified>
  <cp:revision>17</cp:revision>
  <dc:subject/>
  <dc:title>Ecological Problems</dc:title>
</cp:coreProperties>
</file>